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A19-0968-440B-BA15-5F96D175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CE4-F347-421E-8490-AC312BF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A6C-9EA7-491B-9C1B-2DA4BD4F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CEC-8DE5-4F95-9AE8-ECD0223C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C03-0C09-41DF-B9F6-4295397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027-DE06-4BB4-B8BA-0C818FC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FA3-AC71-4EA2-9A6E-347AF706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170-AEDA-40A0-9FB9-8654B69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11A-51FE-4F51-A55E-AF5191F2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FF3-0362-425C-889A-F986C76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06C-3E14-4918-91FC-29B1C79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CA4-65EC-448E-90E8-F9AD64F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553-F310-4553-8AE6-E9F3A8A973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749600"/>
            <a:ext cx="5790960" cy="30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82800" y="468468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384880"/>
            <a:ext cx="1676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A</cp:lastModifiedBy>
  <dcterms:modified xsi:type="dcterms:W3CDTF">2007-06-01T17:24:5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